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5B66-9F27-4BFB-9E3F-1BBAB6BB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BDA1-C673-4E90-93E5-64EAD9A8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42C5-EF44-4DE3-BAA7-EF32FB04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B426-E6FD-4436-BD00-7C1C4400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F480-C0AF-42BE-A3DD-F2EBCB45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8785-58B0-444C-A293-D87DFBCD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FDD2-F33D-495C-A751-E10047BA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4E2A-DBC8-4880-BF17-13620E10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1093-BEFC-44CB-BB0C-F2A60172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CA27-05E0-4F0B-A610-7CC87F85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73F2-6221-4E6D-B17C-994EE329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24B-55EE-4822-9836-64E81AB9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077A-1B59-459F-B6E7-845117EE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2221-DE8D-43B0-ABA5-98EB048A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CFAA-8D77-41E2-9425-A77086E9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ED6B-A54A-4F22-B6A4-F7E4B418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48C5-8953-4CD6-B1B1-F287D169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176DE-B17F-4FD9-A832-64B71C1D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48116-A1D9-4F7A-942E-F6FDEB3D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60489-B45F-4F3A-AF1E-EDEF92D9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2FD77-4852-40F0-A948-5D10C2F4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6C38C-51C5-4EE2-B9D8-A5B2B857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850C-C6EC-4682-A16B-1CAF95D9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D2BA9-52C5-4D24-9A45-25D46693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1313F-AC15-44E6-8376-DDEC7BD7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B24EB-2EDE-4457-8D1A-2171365B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6F139-474F-4D16-BD54-1EA77B75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019BE-66D7-42B7-9268-E7483207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D8EA4-9B72-40E0-8D9A-3A0F7A80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12A3F-6927-4E4D-B7C9-9197A6D2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A9782-6778-4557-948C-0F50A52E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D893C-7541-43D1-9DA5-7D465DFF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D0D1A-30C1-4957-BAEC-D8D76915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7C36-29D6-40C5-81C3-2D2B9AEC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DF948-0674-4E5E-8CC1-EA84EEC3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6FABE-A409-4D20-9F63-1EC809BA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73799-0FBD-4F3A-A96F-5A2E2DC6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E8E7A-AA16-41D7-853F-60394881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B9A9A-1224-4B22-A5FE-E638C4D9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BE915-6407-4FC1-B349-A7AE1CAC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60F18-AF75-46AF-A5A8-0F70268A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EBB29-329F-41E9-A34B-6E493669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B3EB8-4E53-467B-882B-18593464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481A-EB5C-4F5B-808B-335C5A6C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7752-D71E-4FF7-91E2-7C3A1F3B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AA97-490A-45D4-9112-121B2C83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D772-CCBD-4CC1-BEC3-207726BF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1CED-25AC-4581-9488-80AD215D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FI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FI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73F8-4EEC-411B-B923-7D59003B0952}" type="slidenum">
              <a:rPr b="0" lang="sv-FI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FI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FI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DCF6-42B4-484F-A142-69D3474EC9EC}" type="slidenum">
              <a:rPr b="0" lang="sv-FI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FI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FI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6837-4880-498B-A9BE-083927938809}" type="slidenum">
              <a:rPr b="0" lang="sv-FI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FI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FI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A297-C82E-45DA-9EEF-B27BAEE1075B}" type="slidenum">
              <a:rPr b="0" lang="sv-FI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soar2newheights.wikispaces.com/Social+Studies" TargetMode="External"/><Relationship Id="rId3" Type="http://schemas.openxmlformats.org/officeDocument/2006/relationships/hyperlink" Target="http://soar2newheights.wikispaces.com/Social+Studies" TargetMode="External"/><Relationship Id="rId4" Type="http://schemas.openxmlformats.org/officeDocument/2006/relationships/hyperlink" Target="http://greetingsfromtheworld.wikispaces.com/" TargetMode="External"/><Relationship Id="rId5" Type="http://schemas.openxmlformats.org/officeDocument/2006/relationships/hyperlink" Target="http://hums3001.unsw.wikispaces.net/" TargetMode="External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600" spc="-1" strike="noStrike">
                <a:solidFill>
                  <a:srgbClr val="ffffff"/>
                </a:solidFill>
                <a:latin typeface="Constantia"/>
              </a:rPr>
              <a:t>THREE EASY STEP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55440" y="1316160"/>
            <a:ext cx="8247240" cy="1854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351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2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Some examples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2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http://soar2newheights.wikispaces.com/Social+Studi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2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http://greetingsfromtheworld.wikispaces.com/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2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http://hums3001.unsw.wikispaces.net/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Title 1" descr=""/>
          <p:cNvPicPr/>
          <p:nvPr/>
        </p:nvPicPr>
        <p:blipFill>
          <a:blip r:embed="rId1"/>
          <a:stretch/>
        </p:blipFill>
        <p:spPr>
          <a:xfrm>
            <a:off x="139680" y="981000"/>
            <a:ext cx="8424720" cy="2341800"/>
          </a:xfrm>
          <a:prstGeom prst="rect">
            <a:avLst/>
          </a:prstGeom>
          <a:ln w="0">
            <a:noFill/>
          </a:ln>
        </p:spPr>
      </p:pic>
      <p:pic>
        <p:nvPicPr>
          <p:cNvPr id="200" name="Diagram 3" descr=""/>
          <p:cNvPicPr/>
          <p:nvPr/>
        </p:nvPicPr>
        <p:blipFill>
          <a:blip r:embed="rId2"/>
          <a:stretch/>
        </p:blipFill>
        <p:spPr>
          <a:xfrm>
            <a:off x="628560" y="3200400"/>
            <a:ext cx="779616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5000" spc="-1" strike="noStrike">
                <a:solidFill>
                  <a:srgbClr val="04617b"/>
                </a:solidFill>
                <a:latin typeface="Calibri"/>
              </a:rPr>
              <a:t>21ST CENTURY LEARN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Content Placeholder 5" descr=""/>
          <p:cNvPicPr/>
          <p:nvPr/>
        </p:nvPicPr>
        <p:blipFill>
          <a:blip r:embed="rId1"/>
          <a:stretch/>
        </p:blipFill>
        <p:spPr>
          <a:xfrm>
            <a:off x="457200" y="1925640"/>
            <a:ext cx="82296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5:25:03Z</dcterms:created>
  <dc:creator>Mark</dc:creator>
  <dc:description/>
  <dc:language>en-US</dc:language>
  <cp:lastModifiedBy>Mark</cp:lastModifiedBy>
  <dcterms:modified xsi:type="dcterms:W3CDTF">2011-03-26T16:55:00Z</dcterms:modified>
  <cp:revision>18</cp:revision>
  <dc:subject/>
  <dc:title>Creating your class wiki</dc:title>
</cp:coreProperties>
</file>